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37B-1FF6-48BA-9F3E-C00BA4CB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DC6-1F19-42B4-9102-CDEC4D9A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737-BC40-4298-881E-6F7961AD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F75-FCAD-4A2D-9801-BFA3C746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75C3-3DC4-4741-870F-2930D337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D210-F656-4EF9-9DD2-86394CEC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301C-A1F9-4286-96DB-91A187DA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9530-1E3D-455A-AB26-73A789BB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6E85-7AA2-46EB-A927-9E014CAC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060D-E46B-49BB-94BF-046D7FA1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E5CB-03EE-467D-91AF-81B0C17F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7D9-06E2-4214-8478-20895E65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1171-22D8-4E49-B93B-1E273E36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1CBB-2643-4E73-B525-65FBC8BC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3FF3-6A57-43D2-84F8-74B5C188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8C85-8B53-4B81-9D9E-0294672D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B62D-D1D6-4132-BC0D-3D070470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ED2-9505-4DAB-906E-A67073D3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F2D-7098-4060-A6AF-D4D199CA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C07-5E10-4EB8-ACC3-F5041B6F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076-6A71-42EE-83FC-78DB1588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ABB-4E15-47C2-81C5-60B7962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F73-FDBE-405C-BBA0-FE3A307E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DA9-43E3-4FA2-BB15-BDA2017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EB28-11EF-4915-9501-967932B1424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34A-8F1C-4BD5-8EE7-B8E10CEE319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8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Установа за децу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,,Нада Наумовић"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Крагујевац, Саве Ковачевића 30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mail: nada.naumovic@sbb.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II</a:t>
            </a:r>
            <a:r>
              <a:rPr b="1" lang="sr-CS" sz="2800" spc="-1" strike="noStrike">
                <a:solidFill>
                  <a:srgbClr val="ffffff"/>
                </a:solidFill>
                <a:latin typeface="Book Antiqua"/>
              </a:rPr>
              <a:t> фаза истраживања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Сценско извођење драматизованог текста “Кокошија посла” (снимак представе у извођењу деце вртића “Бамби”, а затим и у извођењу родитеља и васпитач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V</a:t>
            </a:r>
            <a:r>
              <a:rPr b="1" lang="sr-CS" sz="2800" spc="-1" strike="noStrike">
                <a:solidFill>
                  <a:srgbClr val="ffffff"/>
                </a:solidFill>
                <a:latin typeface="Book Antiqua"/>
              </a:rPr>
              <a:t> фаза истраживања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Циклус рађања биљке (наративна пантомима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Шума (групна игра улога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Црвенкапа бере цвеће (стаза савести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Цветни ансамбл (драмска игра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Замишљени карактер дрвета (карактер на зиду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25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звој поверења у сопствене капацитете, поверења у друге и у сам процес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ипрема да буде тимски оријентисано у будућнос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снаживање у говору пред другима на јавним наступим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Изналажење креативних решења у решавању конфлика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2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офесионално оснаживање у драмском истраживању усвајањем нових методичких поступак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отврда да је наш ентузијазам, креативност и истраживање основа моћног развојног алата као што је драмски метод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25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познавање са значаје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амског метода за свеобухватан дечји разво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Могућност примене драмског метода и у кругу породиц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звој поверења у дететове могућнос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25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овољни досадашњим радом, испланирали смо наредне кораке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а различите технике драмског метода заживе у свим васпитним групам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а се родитељи едукују за нове драмске технике - радионичарски рад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а се оснује драмски центар који би био отворен за сву децу града, узраста од 4-10 година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25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упа аутора(2006), Корак по корак 2 (приручник за васпитање од 3-7 година), Београд, Креативни цента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јовић,Душица(2009),Моћ маште, моћ покрета,Београд, Центар за примењену психологиј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јовић,Душица(2008),Више од игре,Београд,Центар за примењену психологиј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верстејн, Шел(1995),Добро дрво,Београд, Ноли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 rot="10800000">
            <a:off x="457200" y="6125400"/>
            <a:ext cx="8229600" cy="1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60000"/>
              </a:lnSpc>
              <a:spcBef>
                <a:spcPts val="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5" descr="SS851399r"/>
          <p:cNvPicPr/>
          <p:nvPr/>
        </p:nvPicPr>
        <p:blipFill>
          <a:blip r:embed="rId1"/>
          <a:stretch/>
        </p:blipFill>
        <p:spPr>
          <a:xfrm>
            <a:off x="-219240" y="-249120"/>
            <a:ext cx="9582480" cy="7356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250920" y="549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9c2d1"/>
                </a:solidFill>
                <a:latin typeface="Times New Roman"/>
              </a:rPr>
              <a:t>ХВАЛА НА ПАЖЊИ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6 -0.017 0.02132 -0.021 0.03464 C -0.025 0.0493 -0.027 0.06662 -0.029 0.08394 C -0.031 0.10126 -0.029 0.11592 -0.027 0.13191 C -0.025 0.14656 -0.022 0.16255 -0.015 0.17588 C -0.009 0.1892 0.001 0.19986 0.012 0.20786 C 0.022 0.21585 0.034 0.22118 0.046 0.22384 C 0.058 0.22651 0.07 0.22651 0.081 0.22384 C 0.093 0.22118 0.104 0.21452 0.113 0.20386 C 0.122 0.19453 0.13 0.18254 0.134 0.16788 C 0.139 0.15456 0.141 0.13591 0.141 0.12125 C 0.142 0.10659 0.141 0.08927 0.136 0.07461 C 0.131 0.06129 0.122 0.05063 0.11 0.0453 C 0.098 0.0413 0.086 0.04663 0.078 0.05596 C 0.071 0.06529 0.066 0.07994 0.065 0.09727 C 0.065 0.11459 0.066 0.13058 0.071 0.1439 C 0.076 0.15722 0.075 0.15989 0.095 0.17721 C 0.113 0.19586 0.131 0.19053 0.142 0.19187 C 0.153 0.19187 0.162 0.18654 0.173 0.18121 C 0.185 0.17455 0.195 0.16255 0.202 0.15189 C 0.209 0.14124 0.212 0.12791 0.216 0.10659 C 0.219 0.08527 0.219 0.07461 0.219 0.05863 C 0.219 0.04264 0.219 0.02665 0.219 0.01066 E">
                                      <p:cBhvr>
                                        <p:cTn id="2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-1023840"/>
            <a:ext cx="8229600" cy="397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235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Аутори и реализатори презентације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Светлана Јекић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мина Живојиновић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Верица Јовичић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Ивана Миљковић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Јелена Димитријевић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чин излагања: усмено уз објашњавање видео материја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25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слобађање од негативних емоција и развијање спонтаних и креативних импулса код дец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Адаптација деце која долазе из породиц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кључивање родитеља у драмске активнос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тручно усавршавање васпитача у области креативне драм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25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тварање подстицајне средине одступањем од стандарних образаца за развој креативног и слободног дете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могућити деци да њихова социјална искуства буду привлачна, испуњена смислом  и охрабрујућ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безбедити што више квалитетних и занимљивих садржаја за укључивање родитеља у драмске активнос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рганизовати презентације садржаја из области креативне драме у којима ће васпитачи активно учествова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Драма је пракса за живо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Она је моћно оружје које моментално активира дечју пажњ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Драмски метод утиче на све аспекте дечјег развоја (социо-емоционални, физички, интелектулни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Утиче и на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развој слободе у исказивању дететових схватања и ставова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развој осетљивости за ненасилну комуникацију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способност превазилажења негативних осећања (беса, немоћи, туге, страха)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развој слободе израза покретом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способност креативног мишљењ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Посматрање деце током активнос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Задовољство које су им пружиле слободне активности (игре улога, породице, доктора, прерушавања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Заједничка тимска процена зарад стицања новог искуства и обогаћивања васпитно-образовне пракс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Сусрет са новом литературом из области драмског стваралашт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Book Antiqua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1" lang="sr-CS" sz="2800" spc="-1" strike="noStrike">
                <a:solidFill>
                  <a:srgbClr val="ffffff"/>
                </a:solidFill>
                <a:latin typeface="Book Antiqua"/>
              </a:rPr>
              <a:t>фаза истраживања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Покушај адаптације деце која похађају четворочасовни припремни предшколски програм (деца први пут долазе у вртић) кроз активности креативне драм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1" lang="sr-CS" sz="2800" spc="-1" strike="noStrike">
                <a:solidFill>
                  <a:srgbClr val="ffffff"/>
                </a:solidFill>
                <a:latin typeface="Book Antiqua"/>
              </a:rPr>
              <a:t> фаза истраживања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Техника наративне пантомим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Book Antiqua"/>
              </a:rPr>
              <a:t>- снимак игре “Прича јабуковог семена” (деца активно учествују служећи се пантомимом, слушајући налоге васпитача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07:58Z</dcterms:created>
  <dc:creator>Nikola</dc:creator>
  <dc:description/>
  <dc:language>en-US</dc:language>
  <cp:lastModifiedBy>CHANGE_ME1</cp:lastModifiedBy>
  <dcterms:modified xsi:type="dcterms:W3CDTF">2011-03-28T16:34:33Z</dcterms:modified>
  <cp:revision>15</cp:revision>
  <dc:subject/>
  <dc:title>Slide 1</dc:title>
</cp:coreProperties>
</file>